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1D59-6C7D-4ED0-BA11-A69AF54B08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2D67-1593-4D86-8753-DE31EE0C78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1C6-D033-4686-B1F4-C83BC8F6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8D3-FA8F-4437-98B9-19133E88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51C-E9C9-42F9-ACDF-658840AA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15D-3A37-49FC-A3E1-A144E988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B62-C218-4C98-B6EC-E8D8A811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715-82D0-447D-9E2A-ED607B9A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090-D2AB-4D29-BA50-A70E14A0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C4F-E237-48F1-AFA5-5484EE8A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15F-FFE0-4355-8057-BD4AA76F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7586-0F34-4634-94ED-9D707C3F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A0F-FE38-4538-BE21-18BB6925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405-2ED2-43D5-B18D-53B67C3E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9AED-5511-4F0D-97ED-06A488A69C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ublication.pravo.gov.ru/Document/View/0001202107050027?index=2&amp;rangeSize=1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6 августа 2021</a:t>
            </a:r>
            <a:br>
              <a:rPr sz="24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ромежуточный вебинар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я работа в проект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«Образовательный лифт»: первые итоги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одход к изучению иностранных языков в начальной школе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К окончанию начальной школы учащиеся должны научиться строить диалог на 4-5 фраз со стороны каждого собеседника, составлять монолог на 4-5 реплик, воспринимать и понимать на слух до минуты адаптированного или аутентичного текста и писать тексты объёмом до 80 слов в рамках тематического блока «Мир моего «Я». Мир моих увлечений. Мир вокруг меня. Родная страна и страна изучаемого язы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целом языкового уровня должно хватать для «элементарного бытового общения» и знакомства представителей других стран с «культурой своего нар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Новые примерные рабоч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РабочийСтол\Screenshot_1.png"/>
          <p:cNvPicPr/>
          <p:nvPr/>
        </p:nvPicPr>
        <p:blipFill>
          <a:blip r:embed="rId1"/>
          <a:stretch/>
        </p:blipFill>
        <p:spPr>
          <a:xfrm>
            <a:off x="684360" y="1557360"/>
            <a:ext cx="3527280" cy="489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РабочийСтол\Screenshot_2.png"/>
          <p:cNvPicPr/>
          <p:nvPr/>
        </p:nvPicPr>
        <p:blipFill>
          <a:blip r:embed="rId2"/>
          <a:stretch/>
        </p:blipFill>
        <p:spPr>
          <a:xfrm>
            <a:off x="4716360" y="1600200"/>
            <a:ext cx="338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одержание  примерной рабочей программы по английскому языку в основ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826920" y="1052640"/>
            <a:ext cx="66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руппа ОЛ-21: 11.00-1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. Школьная модель оценки образовательных достижений  учащихся  в условиях требований ФГ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. Взаимосвязанное обучение лексической и грамматической сторонам устной реч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3. Игровые технологии при обучении лексике на уроках англий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4.Проектирование современного урока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5. Средства достижения образовательных результатов в УМК «  ……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6. Дифференцированный подход в обучении. Эффективные приемы из  практики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7. Разработка и применение на практике тренировочных учебных материалов для формирования  языковых навыков и речевых умений в области чтения, аудирования, говорения или письма.  (На выб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8. Применение интерактивных средств обучения (интерактивной доски, электронных образовательных ресурсов и т.д.)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9. Электронное обучение и дистанционные образовательные технологии  в образовательном процессе (Из опыта рабо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0.Реализация принципа преемственности в обучении английскому языку учащихся 5-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1.Формирование навыков читательской грамотности в образовательном процессе по английскому язы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2. Методический инструментарий УМК «…….» в достижении планируемых результатов обучения английскому язы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3. Использование средств визуализаци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4.Организация самостоятельной работы обучающихся в основной и старше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5.Приемы активизации речемыслительной деятельност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6.Новые формы внеурочной иноязычной деятельности, практикуемые в  МАОУ/МБОУ/МОУ «………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7.Самоанализ педагогической деятельности в 2020-2021 учебном году: достижения и неу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8. Практика обучения  английскому  языку в условиях, когда учащиеся не разделены н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9.Формирование навыков критического мышления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0. Специфика работы с учащимися, имеющими низкую мотивацию к изучению английского язы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План вебинара (рабочий язык: русский, англий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4c8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1. Основные результаты  работы участников проекта  «ОЛ-21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(количественные и качественные показатели) на текущий пери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.Ключевые направления развития иноязычного образования в Пермском крае в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021-2022 учебном году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Основные задачи и пути реа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Тихомирова О.А,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СНС  отдела НМС ОО ЦНППМ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3. «Что нужно знать о задании 40 ЕГЭ (Эссе) по английскому языку»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Корелина Н. Н.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, учитель английского языка высшей категории МА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«СОШ № 50 с углубленным изучением английского языка, руководитель методического объединения учителей английского языка г. Перми ,эксперт ЕГЭ, член краевой  конфликтной коми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4. Лайф-хаки для педагогов от участника проекта «ОЛ-ШНОР-21»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Рихсиевой Л.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Данные о выполнении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84440"/>
        </p:xfrm>
        <a:graphic>
          <a:graphicData uri="http://schemas.openxmlformats.org/drawingml/2006/table">
            <a:tbl>
              <a:tblPr/>
              <a:tblGrid>
                <a:gridCol w="1738440"/>
                <a:gridCol w="2232000"/>
                <a:gridCol w="220176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редставленных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2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ыбор темы итогов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Не представили работу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07920"/>
          <a:ext cx="8137440" cy="5780160"/>
        </p:xfrm>
        <a:graphic>
          <a:graphicData uri="http://schemas.openxmlformats.org/drawingml/2006/table">
            <a:tbl>
              <a:tblPr/>
              <a:tblGrid>
                <a:gridCol w="431640"/>
                <a:gridCol w="2736720"/>
                <a:gridCol w="49690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О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Александрова Татья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ОШ №3» г. Горнозавод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Джумалиева Евгения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 г. Лысь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Еговцева Юл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Мельничная СОШ» Част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Зорина Екатерин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лых Анастас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ахитова Роза Васим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Карьевская СОШ Орд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красова Людмил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 СОШ №60» г. Перм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мтинова Наталья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Екатерин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урисламов Артур Мударис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КОУ « Богородская СОШ» Бикбаев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Попова Елена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 «Моргуновская ООШ- Д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Хардина Ирин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Черемных Ольг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ДООШ №1 ( К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Штернберг Арина Ильин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авинская средняя школа» Перм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Основные  выводы по результатам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 выполнения дву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Выявлена  острая необходимость  поддержки по совершенствованию продуктивной письмен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 Необходимо методическое сопровождение ( курсовая подготовка, практикумы) по  освоению технологии выполнения письменных заданий в формате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 Провести практикум по оцениванию письменных работ учащихся на критериальной основе в формате ОГЭ,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бновлённый ФГОС  начального и основного общего образования: анализируем изменения, планируем реализаци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539640" y="2174760"/>
            <a:ext cx="3468960" cy="406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РабочийСтол\Screenshot_1.png"/>
          <p:cNvPicPr/>
          <p:nvPr/>
        </p:nvPicPr>
        <p:blipFill>
          <a:blip r:embed="rId2"/>
          <a:stretch/>
        </p:blipFill>
        <p:spPr>
          <a:xfrm>
            <a:off x="5003640" y="2174760"/>
            <a:ext cx="35625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Максимально конкретно прописываются требования к школьной программе, указывающие, что именно школьник должен изучить в рамках предмета, знать и уметь по итогам прохождения кур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Сохраняется акцент на улучшение метапредметных результатов обучения, то есть на формирование у детей навыков, необходимых для самостоятельного изучения предмета и оперирования полученной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регламентируется личностное развитие учащихся. Детей ждёт гражданское, патриотическое, духовно-нравственное, эстетическое, физическое, трудовое и экологическое вос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Новы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 для основного общего образования содержат значительно больше патриотических установок, особенно в контексте формировании у детей представлений о значимом международном положени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a424d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r>
              <a:rPr b="1" lang="ru-RU" sz="4400" spc="-1" strike="noStrike">
                <a:solidFill>
                  <a:srgbClr val="3a424d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Требования к изучению основного иностранного языка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Изучая иностранный язык, дети в повседневной практике для закрепления полученных навыков должны знакомить представителей других народов с культурой и традициями народов России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действующих ФГОС результатом базового обучения иностранному языку должно стать достижение порогового уровня владения, позволяющего выпускникам общаться в устной и письменной формах как с носителями изучаемого иностранного языка, так и с представителями других стран, использующими данный язык как средство общения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 новому ФГОС школьники основной школы должны вести диалог объёмом до 8 реплик со стороны каждого собеседника, уметь составить монолог на 10-12 фраз, воспринимать и понимать на слух не более двух минут аутентичного текста, писать сообщение на 100-12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Изучение второго иностранного языка – не обязатель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1052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Преподавание ещё одного иностранного языка будет осуществляться при наличии такой возможности в конкретной школе и по заявлению родителей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рамках программы школьники должны научиться изъясняться на втором иностранном языке на уровне, «превышающем элементарный», то есть вести диалог объёмом до 5 реплик со стороны каждого собеседника и составлять монологи в 7-9 фраз, воспринимать и понимать на слух не более 1,5 минут несложного аутентичного текста, уметь писать сообщения до 9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7T11:34:31Z</dcterms:modified>
  <cp:revision>972</cp:revision>
  <dc:subject/>
  <dc:title>Diapositiva 1</dc:title>
</cp:coreProperties>
</file>